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3B3-3711-4016-ADBB-3C3442E9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EF8-F4D9-4293-AD49-4EFDB15A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6880-5AF9-44FF-AEAC-C378C8E7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27A-A569-46CE-B372-BF33EAC5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F79-33C2-4197-A212-A73214F0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B2D-11EB-4687-A3AB-AF2A6987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40B-7CB0-46F5-A611-93CD1C89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8A0-DE27-48D6-A4A6-B5F172A0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BA2-9B97-4195-81AF-44BDC2CD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D66-7D65-4E89-B5C9-043C9967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FCC6-7BEB-4618-9545-612DE690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6B5-5451-4C24-99FA-BCC8DA2B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B644-FD3A-4912-BC08-DBAD1878E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s of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467480" y="35053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1143000" y="48006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1981080" y="2209680"/>
            <a:ext cx="3733920" cy="25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0"/>
          <p:cNvCxnSpPr>
            <a:stCxn id="41" idx="0"/>
            <a:endCxn id="42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22"/>
          <p:cNvCxnSpPr>
            <a:stCxn id="42" idx="3"/>
            <a:endCxn id="44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24"/>
          <p:cNvCxnSpPr>
            <a:stCxn id="42" idx="2"/>
            <a:endCxn id="43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Straight Arrow Connector 28"/>
          <p:cNvCxnSpPr>
            <a:stCxn id="43" idx="3"/>
            <a:endCxn id="45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30"/>
          <p:cNvCxnSpPr>
            <a:stCxn id="45" idx="3"/>
            <a:endCxn id="47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32"/>
          <p:cNvCxnSpPr>
            <a:stCxn id="43" idx="3"/>
            <a:endCxn id="46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34"/>
          <p:cNvCxnSpPr>
            <a:stCxn id="46" idx="2"/>
            <a:endCxn id="48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36"/>
          <p:cNvCxnSpPr>
            <a:stCxn id="43" idx="3"/>
            <a:endCxn id="49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38"/>
          <p:cNvCxnSpPr>
            <a:stCxn id="43" idx="2"/>
            <a:endCxn id="50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40"/>
          <p:cNvCxnSpPr>
            <a:stCxn id="50" idx="2"/>
            <a:endCxn id="51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42"/>
          <p:cNvCxnSpPr>
            <a:stCxn id="51" idx="1"/>
            <a:endCxn id="52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44"/>
          <p:cNvCxnSpPr>
            <a:stCxn id="52" idx="1"/>
            <a:endCxn id="53" idx="3"/>
          </p:cNvCxnSpPr>
          <p:nvPr/>
        </p:nvCxnSpPr>
        <p:spPr>
          <a:xfrm flipH="1" flipV="1">
            <a:off x="3048120" y="5105160"/>
            <a:ext cx="129564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46"/>
          <p:cNvCxnSpPr>
            <a:stCxn id="54" idx="3"/>
            <a:endCxn id="55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48"/>
          <p:cNvCxnSpPr>
            <a:stCxn id="53" idx="2"/>
            <a:endCxn id="54" idx="0"/>
          </p:cNvCxnSpPr>
          <p:nvPr/>
        </p:nvCxnSpPr>
        <p:spPr>
          <a:xfrm flipH="1">
            <a:off x="1104840" y="5410080"/>
            <a:ext cx="99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50"/>
          <p:cNvCxnSpPr>
            <a:stCxn id="53" idx="0"/>
            <a:endCxn id="56" idx="2"/>
          </p:cNvCxnSpPr>
          <p:nvPr/>
        </p:nvCxnSpPr>
        <p:spPr>
          <a:xfrm flipH="1" flipV="1">
            <a:off x="1181160" y="3200400"/>
            <a:ext cx="914760" cy="160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52"/>
          <p:cNvCxnSpPr>
            <a:stCxn id="56" idx="0"/>
            <a:endCxn id="41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49"/>
          <p:cNvCxnSpPr>
            <a:stCxn id="75" idx="1"/>
            <a:endCxn id="50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Frame 37"/>
          <p:cNvSpPr/>
          <p:nvPr/>
        </p:nvSpPr>
        <p:spPr>
          <a:xfrm>
            <a:off x="2057400" y="5943600"/>
            <a:ext cx="1981080" cy="762120"/>
          </a:xfrm>
          <a:custGeom>
            <a:avLst/>
            <a:gdLst>
              <a:gd name="textAreaLeft" fmla="*/ 95040 w 1981080"/>
              <a:gd name="textAreaRight" fmla="*/ 1886040 w 1981080"/>
              <a:gd name="textAreaTop" fmla="*/ 95040 h 762120"/>
              <a:gd name="textAreaBottom" fmla="*/ 667080 h 762120"/>
            </a:gdLst>
            <a:ahLst/>
            <a:rect l="textAreaLeft" t="textAreaTop" r="textAreaRight" b="textAreaBottom"/>
            <a:pathLst>
              <a:path w="1981200" h="762000">
                <a:moveTo>
                  <a:pt x="0" y="0"/>
                </a:moveTo>
                <a:lnTo>
                  <a:pt x="1981200" y="0"/>
                </a:lnTo>
                <a:lnTo>
                  <a:pt x="1981200" y="762000"/>
                </a:lnTo>
                <a:lnTo>
                  <a:pt x="0" y="762000"/>
                </a:lnTo>
                <a:close/>
                <a:moveTo>
                  <a:pt x="95250" y="95250"/>
                </a:moveTo>
                <a:lnTo>
                  <a:pt x="95250" y="666750"/>
                </a:lnTo>
                <a:lnTo>
                  <a:pt x="1885950" y="666750"/>
                </a:lnTo>
                <a:lnTo>
                  <a:pt x="1885950" y="9525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ame 39"/>
          <p:cNvSpPr/>
          <p:nvPr/>
        </p:nvSpPr>
        <p:spPr>
          <a:xfrm>
            <a:off x="990720" y="4648320"/>
            <a:ext cx="2286000" cy="914400"/>
          </a:xfrm>
          <a:custGeom>
            <a:avLst/>
            <a:gdLst>
              <a:gd name="textAreaLeft" fmla="*/ 114120 w 2286000"/>
              <a:gd name="textAreaRight" fmla="*/ 2171880 w 2286000"/>
              <a:gd name="textAreaTop" fmla="*/ 114120 h 914400"/>
              <a:gd name="textAreaBottom" fmla="*/ 800280 h 914400"/>
            </a:gdLst>
            <a:ahLst/>
            <a:rect l="textAreaLeft" t="textAreaTop" r="textAreaRight" b="textAreaBottom"/>
            <a:pathLst>
              <a:path w="2286000" h="914400">
                <a:moveTo>
                  <a:pt x="0" y="0"/>
                </a:moveTo>
                <a:lnTo>
                  <a:pt x="2286000" y="0"/>
                </a:lnTo>
                <a:lnTo>
                  <a:pt x="2286000" y="914400"/>
                </a:lnTo>
                <a:lnTo>
                  <a:pt x="0" y="914400"/>
                </a:lnTo>
                <a:close/>
                <a:moveTo>
                  <a:pt x="114300" y="114300"/>
                </a:moveTo>
                <a:lnTo>
                  <a:pt x="114300" y="800100"/>
                </a:lnTo>
                <a:lnTo>
                  <a:pt x="2171700" y="800100"/>
                </a:lnTo>
                <a:lnTo>
                  <a:pt x="2171700" y="1143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Be STUPYX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ow to make a good graph of your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4"/>
          <p:cNvCxnSpPr/>
          <p:nvPr/>
        </p:nvCxnSpPr>
        <p:spPr>
          <a:xfrm>
            <a:off x="228600" y="1904760"/>
            <a:ext cx="861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Text Box 6"/>
          <p:cNvSpPr/>
          <p:nvPr/>
        </p:nvSpPr>
        <p:spPr>
          <a:xfrm>
            <a:off x="990720" y="20574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438280" y="2057400"/>
            <a:ext cx="62485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crements(what you count by) on y-axis are the same all the way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crements on the x-axis are the same all the way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crements are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is at 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graph if data is close together 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r from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AutoShape 8"/>
          <p:cNvCxnSpPr/>
          <p:nvPr/>
        </p:nvCxnSpPr>
        <p:spPr>
          <a:xfrm>
            <a:off x="2361960" y="1904760"/>
            <a:ext cx="1080" cy="419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84" name="Picture 9" descr="j0282576"/>
          <p:cNvPicPr/>
          <p:nvPr/>
        </p:nvPicPr>
        <p:blipFill>
          <a:blip r:embed="rId1"/>
          <a:stretch/>
        </p:blipFill>
        <p:spPr>
          <a:xfrm>
            <a:off x="304920" y="4648320"/>
            <a:ext cx="1471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7"/>
          <p:cNvSpPr/>
          <p:nvPr/>
        </p:nvSpPr>
        <p:spPr>
          <a:xfrm>
            <a:off x="304920" y="533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666880" y="685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(IV) on (D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28600" y="14479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666880" y="137160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 of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ed on any axis that has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30492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2819520" y="2362320"/>
            <a:ext cx="53337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right type of graph (bar, line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ll of the data o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asy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212760" y="407520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2666880" y="41911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s labeled with the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304920" y="5029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2666880" y="51055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s labeled with the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17"/>
          <p:cNvCxnSpPr/>
          <p:nvPr/>
        </p:nvCxnSpPr>
        <p:spPr>
          <a:xfrm>
            <a:off x="2437920" y="0"/>
            <a:ext cx="1080" cy="586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AutoShape 18"/>
          <p:cNvCxnSpPr/>
          <p:nvPr/>
        </p:nvCxnSpPr>
        <p:spPr>
          <a:xfrm>
            <a:off x="0" y="5866920"/>
            <a:ext cx="914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Text Box 19"/>
          <p:cNvSpPr/>
          <p:nvPr/>
        </p:nvSpPr>
        <p:spPr>
          <a:xfrm>
            <a:off x="0" y="5867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mmary Statement:   A good data graph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j0287310"/>
          <p:cNvPicPr/>
          <p:nvPr/>
        </p:nvPicPr>
        <p:blipFill>
          <a:blip r:embed="rId1"/>
          <a:stretch/>
        </p:blipFill>
        <p:spPr>
          <a:xfrm>
            <a:off x="7162920" y="3124080"/>
            <a:ext cx="17920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1600200"/>
          <a:ext cx="9144000" cy="45054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5680"/>
                <a:gridCol w="1522440"/>
                <a:gridCol w="1523880"/>
              </a:tblGrid>
              <a:tr h="1462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 of 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e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Free Throws Made in 2 minut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# of baskets ma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30"/>
          <p:cNvSpPr/>
          <p:nvPr/>
        </p:nvSpPr>
        <p:spPr>
          <a:xfrm>
            <a:off x="0" y="8380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ffect of Height of Person on Number of Free Throws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hart 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18:25:49Z</dcterms:created>
  <dc:creator>Jean Kavanagh</dc:creator>
  <dc:description/>
  <dc:language>en-US</dc:language>
  <cp:lastModifiedBy>Jean Kavanagh</cp:lastModifiedBy>
  <dcterms:modified xsi:type="dcterms:W3CDTF">2009-10-07T15:42:29Z</dcterms:modified>
  <cp:revision>105</cp:revision>
  <dc:subject/>
  <dc:title>How to Be STUPYX  (how to make a good graph of your data)</dc:title>
</cp:coreProperties>
</file>